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9DB-2477-47D1-AFD4-6838AD98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1F5-4523-400A-AFFD-84FB9E0E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794-B4E6-4A73-831A-46B91BE5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149-49AB-48F4-AAFF-A9A128DF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EEF-6C97-4D14-B5A7-37CFAA06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380-4F15-4114-B6F5-6317A141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A5C-3901-4865-BDEE-36BECEBA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839-9F31-4B64-881D-831297BA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168-4609-4BB3-9448-A38CD9F6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720-D6A7-4B86-9B32-51039F84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EFE-AA70-4863-9DED-60ADA57C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234-885B-439D-B015-B976BE31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37A0-FC40-413C-8F17-7E236B69F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phing equations using 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200400"/>
            <a:ext cx="76201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ndard Form of a Linear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 + BY + C = 0, Where A, B and C are integers and A and B are not both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48006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-interce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where the line crosses the y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791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-inter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ere the line crosses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0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99080" y="5805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(x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1666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ing Equations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38188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008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467480" cy="789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58000" y="1905120"/>
            <a:ext cx="12193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057400"/>
            <a:ext cx="7467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 standard form using integ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2x + 7                                    2. y = -3x –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Y = 2/3 x – 1                                 4. y = -2/5x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4864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57294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99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38280" y="4495680"/>
            <a:ext cx="5334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lain how to find the x – and y – intercepts of a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52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341360"/>
            <a:ext cx="3581280" cy="868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0" y="1295280"/>
            <a:ext cx="358128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086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990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         Graph 3x + 5y= 30 using 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816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419720" cy="70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86400" y="533520"/>
            <a:ext cx="3048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001000" cy="881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1905120"/>
            <a:ext cx="2590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00200"/>
            <a:ext cx="8382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x and y intercepts and grap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x + y =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x + y =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2x + 3y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4864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63244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1752480"/>
            <a:ext cx="34768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blem of the da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3505320"/>
            <a:ext cx="62481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x and y intercepts and grap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x + 5y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x – 4y =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5x + 4y =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9:13:19Z</dcterms:created>
  <dc:creator>Susannah Graham</dc:creator>
  <dc:description/>
  <dc:language>en-US</dc:language>
  <cp:lastModifiedBy>Susannah Graham</cp:lastModifiedBy>
  <dcterms:modified xsi:type="dcterms:W3CDTF">2009-08-04T21:20:00Z</dcterms:modified>
  <cp:revision>9</cp:revision>
  <dc:subject/>
  <dc:title>Lesson 6.3 Standard Form</dc:title>
</cp:coreProperties>
</file>